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1901-ED61-4F6D-B777-AA3B4B6E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306-C537-47EB-A9E0-0B622B17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4DF-DAE4-4F0C-BDE9-258308BD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F71-5BEA-4577-8361-1D4EF76F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053B-4361-458D-A98E-BE6455B4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43FA-1230-414D-A8B3-8973A075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A69E-7AB7-4E6F-A8D0-FBF6B205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6179-25D5-4887-8F1C-F67B85A5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A543-0534-4076-A5E3-DDC49CD6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9029-D13A-4A1F-91BE-6CACEDF8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B08B-571B-4459-83B0-5636BDAD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EB8-CCB6-4575-944F-1BBA12FC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DB6F-1BD8-4628-A250-0B605A35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E459-1623-4802-B288-9F95060F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E061-BC12-491A-9A33-90748E7C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E962-EA97-4239-8B50-D31FFC5A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3CD8-BB9E-4BDA-A76D-C252735A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809-D7C9-4E3B-B599-29C92943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FCE-1C1F-44BE-809F-1D1BBB86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2D5-B753-4152-9DCD-43D847F3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D7A-C801-4FCE-8A59-0F192485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2A4-F17C-4DD8-B679-ACA71DE5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C9F-0F72-44FF-9A13-C4D6099E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345-0E45-4AFB-8E96-BD558AD9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2381-F46F-42BC-BD4B-D9D74814D9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26F1-9197-4022-BDE0-5E74E984E5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afekids.com/contract_parent.htm" TargetMode="External"/><Relationship Id="rId2" Type="http://schemas.openxmlformats.org/officeDocument/2006/relationships/hyperlink" Target="http://www.safekids.com/contract_kid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afekids.com/qui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2096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Bradley Hand ITC"/>
              </a:rPr>
              <a:t>Keeping Kids Safe </a:t>
            </a:r>
            <a:br>
              <a:rPr sz="5400"/>
            </a:br>
            <a:r>
              <a:rPr b="1" lang="en-US" sz="5400" spc="-1" strike="noStrike">
                <a:solidFill>
                  <a:srgbClr val="eaeaea"/>
                </a:solidFill>
                <a:latin typeface="Bradley Hand ITC"/>
              </a:rPr>
              <a:t>on the Internet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Jennifer VanDoren &amp; Sarah Bough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Wilkes – Emerging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October 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538280" cy="1517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Risks for children who use the Internet or other online servi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Exposure to Inappropriate Materia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Harassment and Bullying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Viruses and Hacker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Bradley Hand ITC"/>
              </a:rPr>
              <a:t>How to Reduce the Risk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Parental involvement and supervi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If you have cause for concern about your children’s online activities, talk to th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Have open communication with your childr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Use age-appropriate parental contro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Research software program that block chat areas, and web sites that are known to be inappropriate for childr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Bradley Hand ITC"/>
              </a:rPr>
              <a:t>Guidelines for Parents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adley Hand ITC"/>
              </a:rPr>
              <a:t>Set reasonable rules and guidelines for computer use by your childre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adley Hand ITC"/>
              </a:rPr>
              <a:t>Make it a family rule to never give out identifying or personal inform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adley Hand ITC"/>
              </a:rPr>
              <a:t>Check out blocking, filtering, and ratings application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Bradley Hand ITC"/>
              </a:rPr>
              <a:t>Family Contract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Parents pledg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radley Hand ITC"/>
                <a:hlinkClick r:id="rId1"/>
              </a:rPr>
              <a:t>click he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Kids Pledg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radley Hand ITC"/>
                <a:hlinkClick r:id="rId2"/>
              </a:rPr>
              <a:t>click he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695760" cy="268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Bradley Hand ITC"/>
              </a:rPr>
              <a:t>Online Safety Quiz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cc"/>
                </a:solidFill>
                <a:uFillTx/>
                <a:latin typeface="Bradley Hand ITC"/>
                <a:hlinkClick r:id="rId1"/>
              </a:rPr>
              <a:t>Click Here to Begi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495680" y="3429000"/>
            <a:ext cx="4419720" cy="313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Bradley Hand ITC"/>
              </a:rPr>
              <a:t>Social Web Safety </a:t>
            </a:r>
            <a:br>
              <a:rPr sz="5400"/>
            </a:br>
            <a:r>
              <a:rPr b="1" lang="en-US" sz="5400" spc="-1" strike="noStrike">
                <a:solidFill>
                  <a:srgbClr val="eaeaea"/>
                </a:solidFill>
                <a:latin typeface="Bradley Hand ITC"/>
              </a:rPr>
              <a:t>Tips for Teens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adley Hand ITC"/>
              </a:rPr>
              <a:t>Think about what you post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adley Hand ITC"/>
              </a:rPr>
              <a:t>Avoid in-person meeting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adley Hand ITC"/>
              </a:rPr>
              <a:t>Read between the “lines.”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adley Hand ITC"/>
              </a:rPr>
              <a:t>Don’t talk about sex with stranger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Bradley Hand ITC"/>
              </a:rPr>
              <a:t>Tips to stop Bullying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Don’t respond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Don’t retaliat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Talk to a trusted adul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Save the evidenc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Block the bully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Don’t be a bully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These tips and ideas ar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from the websit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radley Hand ITC"/>
              </a:rPr>
              <a:t>safekids.com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4:17:33Z</dcterms:created>
  <dc:creator>sboughner</dc:creator>
  <dc:description/>
  <dc:language>en-US</dc:language>
  <cp:lastModifiedBy>sboughner</cp:lastModifiedBy>
  <dcterms:modified xsi:type="dcterms:W3CDTF">2009-10-26T16:38:51Z</dcterms:modified>
  <cp:revision>7</cp:revision>
  <dc:subject/>
  <dc:title>Keeping Kids Safe  on the Internet</dc:title>
</cp:coreProperties>
</file>